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16.jpeg" ContentType="image/jpeg"/>
  <Override PartName="/ppt/media/frogs.wav" ContentType="audio/x-wav"/>
  <Override PartName="/ppt/media/applause.wav" ContentType="audio/x-wav"/>
  <Override PartName="/ppt/media/image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9.jpeg" ContentType="image/jpeg"/>
  <Override PartName="/ppt/media/image5.jpeg" ContentType="image/jpeg"/>
  <Override PartName="/ppt/media/image27.png" ContentType="image/png"/>
  <Override PartName="/ppt/media/image7.jpeg" ContentType="image/jpeg"/>
  <Override PartName="/ppt/media/MSj00749110000%5B1%5D.wav" ContentType="audio/x-wav"/>
  <Override PartName="/ppt/media/image1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23.png" ContentType="image/png"/>
  <Override PartName="/ppt/media/image14.gif" ContentType="image/gif"/>
  <Override PartName="/ppt/media/image15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yeehaw.wav" ContentType="audio/x-wav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6FB-E99C-47B3-BB37-28D8BF80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1CD-4206-4B35-BE92-3184513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7BF-EFBF-4CA0-BC92-1EAC38A4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EED-FF2B-4079-B82C-58CB4694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A3E-F836-4573-A283-6AD4C725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2BB-084F-42C4-9A5A-A7BB8446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7A1-03E4-4BE2-B59C-8212936F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CB5-AD6C-4839-9F66-4C8EA38D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E04-676C-42E3-A3E8-A9BC67DA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312-EDAF-45FC-B0D3-6875302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376-E3F3-415E-8945-DA53BC5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11B-9633-42CC-AF9D-D830383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039F-01ED-4E5A-9517-2495CDDFD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Sj00749110000%5B1%5D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ooregon.org/Gallery/images/wallpapers/small/small_frog.jpg&amp;imgrefurl=http://www.zooregon.org/Gallery/wallpapers.htm&amp;h=600&amp;w=800&amp;sz=31&amp;tbnid=_V3BjCoExkMJ:&amp;tbnh=106&amp;tbnw=141&amp;start=5&amp;prev=/images%3Fq%3Dfrog%26hl%3Den%26lr%3D%26sa%3D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yeehaw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iking.coe.uh.edu/~mhasan/cuin3113/tips/frogcycle.ppt" TargetMode="External"/><Relationship Id="rId2" Type="http://schemas.openxmlformats.org/officeDocument/2006/relationships/hyperlink" Target="http://bogglesworldesl.com/files7/froglifecycleactivity.doc" TargetMode="External"/><Relationship Id="rId3" Type="http://schemas.openxmlformats.org/officeDocument/2006/relationships/hyperlink" Target="http://classroom.jc-schools.net/sci-units/frog-cycle.ppt" TargetMode="External"/><Relationship Id="rId4" Type="http://schemas.openxmlformats.org/officeDocument/2006/relationships/hyperlink" Target="http://encarta.msn.com/encyclopedia_761552464/Frog_(animal).html" TargetMode="External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Life Cycle of a Frog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15200" cy="431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11600" y="6156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Adult Frog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Once the lungs form and begin to work, the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gills</a:t>
            </a: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ail</a:t>
            </a: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 disappear.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4953240" cy="31543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The adult </a:t>
            </a:r>
            <a:r>
              <a:rPr b="0" lang="en-US" sz="5400" spc="-1" strike="noStrike">
                <a:solidFill>
                  <a:srgbClr val="990099"/>
                </a:solidFill>
                <a:latin typeface="Comic Sans MS"/>
              </a:rPr>
              <a:t>frog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 is now ready to live on land.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400800" cy="40276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Frog Riddles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Q:  Why are frogs always happy? 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:  Because they always eat what bugs them!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Q:  What kind of frog do you find on a far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A:  A bullfrog!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1676520" cy="1676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1676160" cy="1676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05520" y="4686480"/>
            <a:ext cx="2476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More Frogs!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2667240" cy="20048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00400" y="1676520"/>
            <a:ext cx="2666880" cy="20955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5832" b="18344"/>
          <a:stretch/>
        </p:blipFill>
        <p:spPr>
          <a:xfrm>
            <a:off x="228600" y="4114800"/>
            <a:ext cx="2816280" cy="196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5"/>
          <a:srcRect l="7903" t="0" r="10523" b="7841"/>
          <a:stretch/>
        </p:blipFill>
        <p:spPr>
          <a:xfrm>
            <a:off x="3276720" y="4114800"/>
            <a:ext cx="2438280" cy="1967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019920" y="1676520"/>
            <a:ext cx="2819160" cy="210492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pic>
        <p:nvPicPr>
          <p:cNvPr id="88" name="" descr="red-bellied tree frog"/>
          <p:cNvPicPr/>
          <p:nvPr/>
        </p:nvPicPr>
        <p:blipFill>
          <a:blip r:embed="rId7"/>
          <a:stretch/>
        </p:blipFill>
        <p:spPr>
          <a:xfrm>
            <a:off x="5867280" y="4114800"/>
            <a:ext cx="297180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What is the first stage of the frog life cycle?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339933"/>
                </a:solidFill>
                <a:latin typeface="Comic Sans MS"/>
              </a:rPr>
              <a:t>The first stage of the frog life cycle is the</a:t>
            </a: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1" lang="en-US" sz="88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1" lang="en-US" sz="8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picture of frog spawn."/>
          <p:cNvPicPr/>
          <p:nvPr/>
        </p:nvPicPr>
        <p:blipFill>
          <a:blip r:embed="rId1"/>
          <a:stretch/>
        </p:blipFill>
        <p:spPr>
          <a:xfrm>
            <a:off x="3733920" y="4495680"/>
            <a:ext cx="1778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What is the next stage of the frog life cycle?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990720"/>
            <a:ext cx="8331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 next stage of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 frog life cycl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is th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19520" y="50292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What is the last stage of the frog life cycle?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7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760" y="228600"/>
            <a:ext cx="837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 last stage of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frog life cycle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th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adult frog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429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Metamorphosis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Metamorphosis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is the changes that a frog goes through during its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life cycle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There are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four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main stages in the life cycle of a frog.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4724280"/>
            <a:ext cx="46479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Ribbit! Resources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viking.coe.uh.edu/~mhasan/cuin3113/tips/frogcycle.ppt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bogglesworldesl.com/files7/froglifecycleactivity.doc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classroom.jc-schools.net/sci-units/frog-cycle.ppt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http://encarta.msn.com/encyclopedia_761552464/Frog_(animal).html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mages provided by Google Image Search.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896160" y="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971800" y="4191120"/>
            <a:ext cx="3200400" cy="2324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33520" y="450720"/>
            <a:ext cx="182880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Frogs have a life cycle with two parts, living in water as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tadpoles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and on land as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adults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. 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8701" r="0" b="0"/>
          <a:stretch/>
        </p:blipFill>
        <p:spPr>
          <a:xfrm>
            <a:off x="838080" y="2284560"/>
            <a:ext cx="7696440" cy="423072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Egg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The first stage in the life cycle of the frog is the 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A frog lays many eggs at one time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The eggs are covered with a jellylike coating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16524" r="-1134" b="0"/>
          <a:stretch/>
        </p:blipFill>
        <p:spPr>
          <a:xfrm>
            <a:off x="5105520" y="3733920"/>
            <a:ext cx="3581280" cy="254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217" t="7434" r="23029" b="14658"/>
          <a:stretch/>
        </p:blipFill>
        <p:spPr>
          <a:xfrm>
            <a:off x="5867280" y="609480"/>
            <a:ext cx="2360880" cy="23097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Frog Eggs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33960" cy="46278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Comic Sans MS"/>
              </a:rPr>
              <a:t>Eggs in a Pond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814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914400" y="2743200"/>
            <a:ext cx="83808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33560" y="2133720"/>
            <a:ext cx="75960" cy="53316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Tadpole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The second stage of the frog life cycle is th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Hatched tadpoles hav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gills</a:t>
            </a: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 for breathing in the water.  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They have a tail, but no legs.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4952880"/>
            <a:ext cx="3657600" cy="1413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As a </a:t>
            </a: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 grows, </a:t>
            </a: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lungs</a:t>
            </a: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 begin to form.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724280" cy="354348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Froglet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The next stage of the frog life cycle is the </a:t>
            </a: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froglet</a:t>
            </a: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4191120" cy="2952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9" name=""/>
          <p:cNvSpPr/>
          <p:nvPr/>
        </p:nvSpPr>
        <p:spPr>
          <a:xfrm flipV="1">
            <a:off x="5410080" y="5028840"/>
            <a:ext cx="228600" cy="6094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410080" y="5562360"/>
            <a:ext cx="1143000" cy="7596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657600"/>
            <a:ext cx="3124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Comic Sans MS"/>
              </a:rPr>
              <a:t>These legs help the frog on 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8:20:05Z</dcterms:created>
  <dc:creator>Jefferson County Tech Center</dc:creator>
  <dc:description/>
  <dc:language>en-US</dc:language>
  <cp:lastModifiedBy>Property of</cp:lastModifiedBy>
  <dcterms:modified xsi:type="dcterms:W3CDTF">2009-02-17T13:41:28Z</dcterms:modified>
  <cp:revision>37</cp:revision>
  <dc:subject/>
  <dc:title>Life Cycle of a Frog</dc:title>
</cp:coreProperties>
</file>